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56E-90D9-4B9F-B22C-D99EF9C5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753-3E5C-4C54-A414-3DC9865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92A-3952-48C5-805B-BEF0D9D7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79F-BD59-4563-8F3A-8442A2AA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A25-A723-49A5-B7F2-5D4BDC6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456-CC81-47A9-8F8A-D3ADAAFD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EA2-6CAB-453C-B2B4-082E42E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701-7A05-4C2D-AD29-631F573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BA2-3CBE-453D-A66E-3A25C53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065-8632-44C4-8F2A-1379D6E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35B-B7DD-41F6-BD92-9248F6E2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BB6-2957-4765-9F72-1EEA0FB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A80-B00D-424B-9104-3AFF5AC0C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886880" y="1268280"/>
            <a:ext cx="1006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Picture 5" descr="图片1"/>
            <p:cNvPicPr/>
            <p:nvPr/>
          </p:nvPicPr>
          <p:blipFill>
            <a:blip r:embed="rId1"/>
            <a:stretch/>
          </p:blipFill>
          <p:spPr>
            <a:xfrm>
              <a:off x="3240" y="1440"/>
              <a:ext cx="91407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0" y="0"/>
              <a:ext cx="1828800" cy="685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7010280" y="0"/>
              <a:ext cx="2133720" cy="685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WordArt 8" descr="白色大理石"/>
          <p:cNvPicPr/>
          <p:nvPr/>
        </p:nvPicPr>
        <p:blipFill>
          <a:blip r:embed="rId2"/>
          <a:stretch/>
        </p:blipFill>
        <p:spPr>
          <a:xfrm>
            <a:off x="7070760" y="895320"/>
            <a:ext cx="1981080" cy="37688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33520" y="3505320"/>
            <a:ext cx="990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杨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绛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老王"/>
          <p:cNvPicPr/>
          <p:nvPr/>
        </p:nvPicPr>
        <p:blipFill>
          <a:blip r:embed="rId1"/>
          <a:stretch/>
        </p:blipFill>
        <p:spPr>
          <a:xfrm>
            <a:off x="1692360" y="2565360"/>
            <a:ext cx="547200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"/>
          <p:cNvSpPr txBox="1"/>
          <p:nvPr/>
        </p:nvSpPr>
        <p:spPr>
          <a:xfrm>
            <a:off x="1692360" y="765000"/>
            <a:ext cx="57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知恩图报、心地善良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7956720" y="4076640"/>
            <a:ext cx="576000" cy="647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老王怕“我”真的托人给他送钱，平白给“我”添麻烦。这体现了老王的朴实、善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40720" y="5950080"/>
            <a:ext cx="647640" cy="431640"/>
          </a:xfrm>
          <a:custGeom>
            <a:avLst/>
            <a:gdLst>
              <a:gd name="textAreaLeft" fmla="*/ 150840 w 647640"/>
              <a:gd name="textAreaRight" fmla="*/ 496440 w 64764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社会总有幸运者和不幸者，幸运者有责任关爱不幸者，关注他们的命运，让他们过上好日子，帮助改善他们的处境。作者回想起来，对老王的关爱还很不够，所以感到“愧怍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0755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1d0755"/>
                </a:solidFill>
                <a:latin typeface="Arial"/>
              </a:rPr>
              <a:t>本文表达了作者怎样的思想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老王的不幸深表同情，为自己对老王的关爱还不够和自己无力真正改善老王的境遇而感到“愧怍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叙述的事情较多，作者是怎样组织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9672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前四段写：老王的职业、生理缺陷、居住条件。（因果关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接下来的三个片段，按照时间顺序，写老王的工作与为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老王去世前一天，也是全文最感人的片段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本文的线索是“我”与老王的交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8028000" y="5805360"/>
            <a:ext cx="647640" cy="432000"/>
          </a:xfrm>
          <a:custGeom>
            <a:avLst/>
            <a:gdLst>
              <a:gd name="textAreaLeft" fmla="*/ 150840 w 647640"/>
              <a:gd name="textAreaRight" fmla="*/ 496440 w 64764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与人之间的关系应该是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平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。个人由于境遇不同，就有幸运与不幸的差别，甚至差别很大。一个幸运者只有关爱不幸者的责任，没有歧视不幸者的理由。现在，社会要求我们每一个人有人道主义精神，要关心别人、尊重别人对社会做出的贡献，作者一家就是对不幸者老王怀有一颗爱心，具有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人道主义精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627280" y="40464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1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Rectangle 3"/>
          <p:cNvSpPr/>
          <p:nvPr/>
        </p:nvSpPr>
        <p:spPr>
          <a:xfrm>
            <a:off x="2771640" y="2421000"/>
            <a:ext cx="5616720" cy="13129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你们的生活周围有像老王这样的不幸者吗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你是怎样对待他们的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663300"/>
                </a:solidFill>
                <a:latin typeface="黑体"/>
                <a:ea typeface="黑体"/>
              </a:rPr>
              <a:t>说出你的想法和做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89534"/>
          <p:cNvPicPr/>
          <p:nvPr/>
        </p:nvPicPr>
        <p:blipFill>
          <a:blip r:embed="rId1"/>
          <a:stretch/>
        </p:blipFill>
        <p:spPr>
          <a:xfrm>
            <a:off x="179280" y="189000"/>
            <a:ext cx="8604360" cy="6272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44"/>
          <p:cNvPicPr/>
          <p:nvPr/>
        </p:nvPicPr>
        <p:blipFill>
          <a:blip r:embed="rId1"/>
          <a:stretch/>
        </p:blipFill>
        <p:spPr>
          <a:xfrm>
            <a:off x="971640" y="692280"/>
            <a:ext cx="7345440" cy="4824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419640" y="566100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我好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32"/>
          <p:cNvPicPr/>
          <p:nvPr/>
        </p:nvPicPr>
        <p:blipFill>
          <a:blip r:embed="rId1"/>
          <a:stretch/>
        </p:blipFill>
        <p:spPr>
          <a:xfrm>
            <a:off x="468360" y="83664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52"/>
          <p:cNvPicPr/>
          <p:nvPr/>
        </p:nvPicPr>
        <p:blipFill>
          <a:blip r:embed="rId2"/>
          <a:stretch/>
        </p:blipFill>
        <p:spPr>
          <a:xfrm>
            <a:off x="4859280" y="836640"/>
            <a:ext cx="3816360" cy="511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杨绛"/>
          <p:cNvPicPr/>
          <p:nvPr/>
        </p:nvPicPr>
        <p:blipFill>
          <a:blip r:embed="rId1"/>
          <a:stretch/>
        </p:blipFill>
        <p:spPr>
          <a:xfrm>
            <a:off x="4859280" y="692280"/>
            <a:ext cx="3888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3477960"/>
            <a:ext cx="4319280" cy="1130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杨绛，江苏无锡人。作家、文学翻译家。少年时代先后在北京、上海、苏州等地读书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于苏州东吴大学毕业，获文学学士学位；随即考入清华大学研究院，为外国语言文学研究生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与钱钟书结婚，是年夏季与钱钟书同赴英国、法国留学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3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秋回国，曾任上海震旦女子文理学院外语系教授，业余从事创作。著有散文集《干校六记》《将饮茶》，长篇小说《洗澡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00720" y="5516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49"/>
          <p:cNvPicPr/>
          <p:nvPr/>
        </p:nvPicPr>
        <p:blipFill>
          <a:blip r:embed="rId1"/>
          <a:stretch/>
        </p:blipFill>
        <p:spPr>
          <a:xfrm>
            <a:off x="684360" y="549360"/>
            <a:ext cx="4903560" cy="5765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084720" y="1798920"/>
            <a:ext cx="251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王致中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贵州以背煤为生。一筐煤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公斤，从煤坑向上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，然后再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米山路，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元人民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"/>
          <p:cNvPicPr/>
          <p:nvPr/>
        </p:nvPicPr>
        <p:blipFill>
          <a:blip r:embed="rId1"/>
          <a:stretch/>
        </p:blipFill>
        <p:spPr>
          <a:xfrm>
            <a:off x="755640" y="620640"/>
            <a:ext cx="7632720" cy="4896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2556000" y="57340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贫苦的盲人夫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48"/>
          <p:cNvPicPr/>
          <p:nvPr/>
        </p:nvPicPr>
        <p:blipFill>
          <a:blip r:embed="rId1"/>
          <a:stretch/>
        </p:blipFill>
        <p:spPr>
          <a:xfrm>
            <a:off x="1042920" y="765000"/>
            <a:ext cx="7274160" cy="525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36232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d60093"/>
                </a:solidFill>
                <a:latin typeface="隶书"/>
                <a:ea typeface="隶书"/>
              </a:rPr>
              <a:t>爱心是什么</a:t>
            </a:r>
            <a:r>
              <a:rPr b="1" lang="zh-CN" sz="4400" spc="-1" strike="noStrike">
                <a:solidFill>
                  <a:srgbClr val="d60093"/>
                </a:solidFill>
                <a:latin typeface="隶书"/>
                <a:ea typeface="隶书"/>
              </a:rPr>
              <a:t>?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爱心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是一片照射在冬日的阳光，使贫病交迫的人感到人间的温暖；爱心是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71640" y="692280"/>
            <a:ext cx="2859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7632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仿句</a:t>
            </a:r>
            <a:endParaRPr b="0" lang="en-US" sz="1800" spc="1" strike="noStrike">
              <a:ln w="76320">
                <a:solidFill>
                  <a:srgbClr val="d60093"/>
                </a:solidFill>
                <a:miter/>
              </a:ln>
              <a:solidFill>
                <a:srgbClr val="d6009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Line 5"/>
          <p:cNvSpPr/>
          <p:nvPr/>
        </p:nvSpPr>
        <p:spPr>
          <a:xfrm flipV="1">
            <a:off x="1619280" y="4941360"/>
            <a:ext cx="6183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219320" y="5867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28600" y="223524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心的呼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爱的奉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人间的春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生命的源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013000" y="1905120"/>
            <a:ext cx="2375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没有心的沙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没有爱的荒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死神也望而却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之花处处开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267520" y="5087880"/>
            <a:ext cx="2923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要人人都献出一点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将变成美好的人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543040" y="853920"/>
            <a:ext cx="18766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爱的奉献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00000" y="3284640"/>
            <a:ext cx="7632720" cy="2593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读《老王》有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题，写一篇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字左右的小作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欣赏  屠格涅夫《乞丐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14"/>
          <p:cNvPicPr/>
          <p:nvPr/>
        </p:nvPicPr>
        <p:blipFill>
          <a:blip r:embed="rId1"/>
          <a:stretch/>
        </p:blipFill>
        <p:spPr>
          <a:xfrm>
            <a:off x="3276720" y="189000"/>
            <a:ext cx="4271760" cy="221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WordArt 3" descr=""/>
          <p:cNvPicPr/>
          <p:nvPr/>
        </p:nvPicPr>
        <p:blipFill>
          <a:blip r:embed="rId1"/>
          <a:stretch/>
        </p:blipFill>
        <p:spPr>
          <a:xfrm>
            <a:off x="2041560" y="865080"/>
            <a:ext cx="5292720" cy="4151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26920" y="1484280"/>
            <a:ext cx="756144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思考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: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文中的老王是一个怎样的人？具体体现在哪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d60093"/>
                </a:solidFill>
                <a:latin typeface="Arial"/>
                <a:ea typeface="隶书"/>
              </a:rPr>
              <a:t>感知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6"/>
          <p:cNvPicPr/>
          <p:nvPr/>
        </p:nvPicPr>
        <p:blipFill>
          <a:blip r:embed="rId1"/>
          <a:stretch/>
        </p:blipFill>
        <p:spPr>
          <a:xfrm>
            <a:off x="1692360" y="3116160"/>
            <a:ext cx="6119640" cy="3741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05264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老王善良的表现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32000" y="2060640"/>
            <a:ext cx="58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送冰块，车费减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送钱先生看病，不要钱，拿了钱还不大放心，担心人家看病钱不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受人好处，去世前一天还硬撑着拿了香油、鸡蛋上门感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916360" y="189000"/>
            <a:ext cx="2438280" cy="68580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0 h 685800"/>
              <a:gd name="textAreaBottom" fmla="*/ 600120 h 6858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9999"/>
          </a:solidFill>
          <a:ln cap="rnd" w="507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深入研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1440000" y="189000"/>
            <a:ext cx="7703640" cy="1052280"/>
            <a:chOff x="1440000" y="189000"/>
            <a:chExt cx="7703640" cy="1052280"/>
          </a:xfrm>
        </p:grpSpPr>
        <p:grpSp>
          <p:nvGrpSpPr>
            <p:cNvPr id="59" name="Group 7"/>
            <p:cNvGrpSpPr/>
            <p:nvPr/>
          </p:nvGrpSpPr>
          <p:grpSpPr>
            <a:xfrm>
              <a:off x="1688400" y="296640"/>
              <a:ext cx="607680" cy="474120"/>
              <a:chOff x="1688400" y="296640"/>
              <a:chExt cx="607680" cy="47412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1688400" y="296640"/>
                <a:ext cx="37404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9"/>
              <p:cNvSpPr/>
              <p:nvPr/>
            </p:nvSpPr>
            <p:spPr>
              <a:xfrm>
                <a:off x="2015640" y="296640"/>
                <a:ext cx="280440" cy="47412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0"/>
            <p:cNvGrpSpPr/>
            <p:nvPr/>
          </p:nvGrpSpPr>
          <p:grpSpPr>
            <a:xfrm>
              <a:off x="1794240" y="718920"/>
              <a:ext cx="631080" cy="474120"/>
              <a:chOff x="1794240" y="718920"/>
              <a:chExt cx="631080" cy="474120"/>
            </a:xfrm>
          </p:grpSpPr>
          <p:sp>
            <p:nvSpPr>
              <p:cNvPr id="63" name="Rectangle 11"/>
              <p:cNvSpPr/>
              <p:nvPr/>
            </p:nvSpPr>
            <p:spPr>
              <a:xfrm>
                <a:off x="1794240" y="718920"/>
                <a:ext cx="3603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2109960" y="718920"/>
                <a:ext cx="315360" cy="474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Rectangle 13"/>
            <p:cNvSpPr/>
            <p:nvPr/>
          </p:nvSpPr>
          <p:spPr>
            <a:xfrm>
              <a:off x="1440000" y="645840"/>
              <a:ext cx="47916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1982880" y="189000"/>
              <a:ext cx="2700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>
              <a:off x="1710000" y="1010520"/>
              <a:ext cx="743364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557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与老王交往的作者及家人又是怎样的人？具体体现在哪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杨绛、钱钟书"/>
          <p:cNvPicPr/>
          <p:nvPr/>
        </p:nvPicPr>
        <p:blipFill>
          <a:blip r:embed="rId1"/>
          <a:stretch/>
        </p:blipFill>
        <p:spPr>
          <a:xfrm>
            <a:off x="826920" y="3141720"/>
            <a:ext cx="3818160" cy="319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34"/>
          <p:cNvPicPr/>
          <p:nvPr/>
        </p:nvPicPr>
        <p:blipFill>
          <a:blip r:embed="rId2"/>
          <a:stretch/>
        </p:blipFill>
        <p:spPr>
          <a:xfrm>
            <a:off x="4859280" y="3213000"/>
            <a:ext cx="3889440" cy="313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”也是一个善良的人。具体表现在：照顾老王的生意，坐他的车；老王再客气，也付给他应得的报酬；老王送来香油、鸡蛋，不让他白送；关心老王的生活三轮改成平板三轮，生意不好做，作者关切询问他是否能维持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96960" y="230364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333880" y="163728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Tahoma"/>
                <a:ea typeface="隶书"/>
              </a:rPr>
              <a:t>用善良体察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 flipH="1">
            <a:off x="4133880" y="2349360"/>
            <a:ext cx="13993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Tahoma"/>
                <a:ea typeface="隶书"/>
              </a:rPr>
              <a:t>用爱心浇灌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19000" y="1085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15920" y="447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611280" y="1341360"/>
            <a:ext cx="144360" cy="36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-5508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老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48000" y="458640"/>
            <a:ext cx="142920" cy="1513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29640" y="31104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哥哥死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侄儿没出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孤苦伶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245120" y="6922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田螺眼，夜盲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坐他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306680" y="112536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载客与改平板货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力运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882320" y="14842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位主顾降格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——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凑合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632600" y="103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靠破三轮活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715400" y="448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凭良心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3060720" y="3267000"/>
            <a:ext cx="144360" cy="288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019760" y="3051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我送冰，冰多，同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04440" y="4413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送我丈夫看病，不拿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978360" y="5494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死前送礼，知恩图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8172360" y="981000"/>
            <a:ext cx="432000" cy="4896000"/>
          </a:xfrm>
          <a:custGeom>
            <a:avLst/>
            <a:gdLst>
              <a:gd name="textAreaLeft" fmla="*/ 0 w 432000"/>
              <a:gd name="textAreaRight" fmla="*/ 155880 w 43200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8597880" y="1817640"/>
            <a:ext cx="54612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同情，关爱不幸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老王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朗读课文第八自然段至第二十二自然段，思考下列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老王为什么在去世前给我送香油、鸡蛋？体现了他怎样的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老王说“我不是要钱”为什么最后还收了钱呢？你是怎样理解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对课文结尾“那是一个幸运的人对一个不幸者的愧怍”，应该怎样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195640" y="0"/>
            <a:ext cx="475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重点研讨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877080" y="3500280"/>
            <a:ext cx="647640" cy="289080"/>
          </a:xfrm>
          <a:custGeom>
            <a:avLst/>
            <a:gdLst>
              <a:gd name="textAreaLeft" fmla="*/ 94680 w 647640"/>
              <a:gd name="textAreaRight" fmla="*/ 552960 w 647640"/>
              <a:gd name="textAreaTop" fmla="*/ 42120 h 289080"/>
              <a:gd name="textAreaBottom" fmla="*/ 2469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651640" y="4653000"/>
            <a:ext cx="576000" cy="43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7451640" y="5877000"/>
            <a:ext cx="36036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User</cp:lastModifiedBy>
  <dcterms:modified xsi:type="dcterms:W3CDTF">2014-09-15T13:09:37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